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FA7-37FE-4240-A7DD-A20308A6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909-2A4A-429E-AD30-387B09C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E3B-8AF0-4CAF-AA3A-BC5E03DC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5EB-CA67-4C24-8FB5-5F786ECA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D19-C987-4E0B-B13C-0B59747A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239-9178-4D1D-B734-9293D2E4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E00-57B5-42CC-A00F-DB69068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2DC-CD4E-4A1D-A7A1-CC6D8ED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A60-5B7C-49C9-9EBD-AA6B01E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4EF-4208-438D-B402-DB2D028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13A-B7D6-4B86-8058-1A2777C6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08B-381C-473E-9555-113E0FC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9C65-B1E7-4917-B202-406CF545E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752480"/>
          </a:xfrm>
          <a:prstGeom prst="rect">
            <a:avLst/>
          </a:prstGeom>
          <a:solidFill>
            <a:srgbClr val="66ccff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IOSP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9144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3413160" y="6612840"/>
            <a:ext cx="573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eng.buffalo.edu/shaw/student/m2_design/01_home/ksb/KSB_S2/FoodChainN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0" descr="food web"/>
          <p:cNvPicPr/>
          <p:nvPr/>
        </p:nvPicPr>
        <p:blipFill>
          <a:blip r:embed="rId1"/>
          <a:stretch/>
        </p:blipFill>
        <p:spPr>
          <a:xfrm>
            <a:off x="2514600" y="1981080"/>
            <a:ext cx="41799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3733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a trophic leve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04920" y="25146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ch step in food chain or food web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4495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 limiting nutrien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685800" y="205740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utrient that is scarce or cycles slowly in an ecosyste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80880" y="49528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hemosynthesis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0880" y="22096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 in which organisms use chemicals to make their own energy in the absence of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5720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ooperation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912960" y="2286000"/>
            <a:ext cx="360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1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monkey groom"/>
          <p:cNvPicPr/>
          <p:nvPr/>
        </p:nvPicPr>
        <p:blipFill>
          <a:blip r:embed="rId3"/>
          <a:stretch/>
        </p:blipFill>
        <p:spPr>
          <a:xfrm>
            <a:off x="5181480" y="1447920"/>
            <a:ext cx="3619800" cy="3481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3"/>
          <p:cNvSpPr/>
          <p:nvPr/>
        </p:nvSpPr>
        <p:spPr>
          <a:xfrm>
            <a:off x="5485680" y="121860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mark-ju.net/wildlife/images/monkey03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85800" y="5181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symbiosis (parasitism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57200" y="20574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is type of inte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1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og tick 1"/>
          <p:cNvPicPr/>
          <p:nvPr/>
        </p:nvPicPr>
        <p:blipFill>
          <a:blip r:embed="rId3"/>
          <a:stretch/>
        </p:blipFill>
        <p:spPr>
          <a:xfrm>
            <a:off x="5029200" y="1676520"/>
            <a:ext cx="36147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ompeti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380880" y="198108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type of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1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elk fight"/>
          <p:cNvPicPr/>
          <p:nvPr/>
        </p:nvPicPr>
        <p:blipFill>
          <a:blip r:embed="rId3"/>
          <a:stretch/>
        </p:blipFill>
        <p:spPr>
          <a:xfrm>
            <a:off x="4419720" y="19051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3"/>
          <p:cNvSpPr/>
          <p:nvPr/>
        </p:nvSpPr>
        <p:spPr>
          <a:xfrm>
            <a:off x="5333400" y="1553400"/>
            <a:ext cx="34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wasatchcomputers.net/gallery/elk_fight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335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pred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0880" y="228600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ty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redator"/>
          <p:cNvPicPr/>
          <p:nvPr/>
        </p:nvPicPr>
        <p:blipFill>
          <a:blip r:embed="rId3"/>
          <a:stretch/>
        </p:blipFill>
        <p:spPr>
          <a:xfrm>
            <a:off x="5029200" y="2057400"/>
            <a:ext cx="3406680" cy="3017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5410440" y="1751760"/>
            <a:ext cx="30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personal.ecu.edu/wuenschk/rabbit-wolf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09480" y="4114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 food, shelter, territory/space, mates, or l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533520" y="243828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ll something organisms might compet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676520" y="3962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62120" y="2590920"/>
            <a:ext cx="775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roup of similar organisms that live together are called a 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0"/>
          <p:cNvSpPr/>
          <p:nvPr/>
        </p:nvSpPr>
        <p:spPr>
          <a:xfrm>
            <a:off x="380880" y="236232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____ factors are the non-living components in an ecosystem like soil, climate, light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066680" y="2362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biot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1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8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9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0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1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2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3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4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7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8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6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7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8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9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4956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7200" y="25909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ferent populations that live in an area make up a 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371600" y="2590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du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457200" y="19810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totrophs can also be called 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2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95280" y="2057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cav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57200" y="20574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_______________ feeds on animals that were killed by other animals or died of natural caus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4495680" y="227880"/>
            <a:ext cx="444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s from:    http://www.utm.edu/~rirwin/symmetry2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8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33520" y="5715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 alga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57200" y="17524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organism on the first trophic level in this food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7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9" descr="food chain4"/>
          <p:cNvPicPr/>
          <p:nvPr/>
        </p:nvPicPr>
        <p:blipFill>
          <a:blip r:embed="rId2"/>
          <a:stretch/>
        </p:blipFill>
        <p:spPr>
          <a:xfrm>
            <a:off x="685800" y="3200400"/>
            <a:ext cx="8067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0880" y="5562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It will decreas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ess food will be available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14479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ill happen to the mouse population if the Oak trees get a fungus and don’t produce acorns this ye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food web"/>
          <p:cNvPicPr/>
          <p:nvPr/>
        </p:nvPicPr>
        <p:blipFill>
          <a:blip r:embed="rId2"/>
          <a:stretch/>
        </p:blipFill>
        <p:spPr>
          <a:xfrm>
            <a:off x="3733920" y="1447920"/>
            <a:ext cx="5181480" cy="4120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4"/>
          <p:cNvSpPr/>
          <p:nvPr/>
        </p:nvSpPr>
        <p:spPr>
          <a:xfrm>
            <a:off x="3413160" y="5562000"/>
            <a:ext cx="573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eng.buffalo.edu/shaw/student/m2_design/01_home/ksb/KSB_S2/FoodChainN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5867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are centipedes/daph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7160" y="2133720"/>
            <a:ext cx="2873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ritovo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f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food web9"/>
          <p:cNvPicPr/>
          <p:nvPr/>
        </p:nvPicPr>
        <p:blipFill>
          <a:blip r:embed="rId2"/>
          <a:stretch/>
        </p:blipFill>
        <p:spPr>
          <a:xfrm>
            <a:off x="3429000" y="1219320"/>
            <a:ext cx="5508720" cy="4435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3"/>
          <p:cNvSpPr/>
          <p:nvPr/>
        </p:nvSpPr>
        <p:spPr>
          <a:xfrm>
            <a:off x="4571280" y="913680"/>
            <a:ext cx="39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arcytech.org/java/population/images/food_web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04920" y="5638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Maned goose/ tadpol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33520" y="1600200"/>
            <a:ext cx="2666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rbivore in this food web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food web9"/>
          <p:cNvPicPr/>
          <p:nvPr/>
        </p:nvPicPr>
        <p:blipFill>
          <a:blip r:embed="rId2"/>
          <a:stretch/>
        </p:blipFill>
        <p:spPr>
          <a:xfrm>
            <a:off x="3809880" y="1600200"/>
            <a:ext cx="51055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04920" y="4876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are autotro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80880" y="21337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group of organisms that is always at the base of every food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1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22860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 how the movement of matter through an ecosystem is different than the flow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3520" y="434340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matter is recycled and moves between organisms and the ecosystem; energy moves in one direction through organisms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4419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nitrogen cyc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85800" y="21337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cycle that involves nitrogen fix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38080" y="4572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carbon cyc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4920" y="21337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cycle that includes CO2 in atmosphere, fossil fuels underground, photosynthesis, and re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water cycle (hydrologic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838080" y="25909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cycle that involves evaporation, transpiration, condensation, and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04920" y="4267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nitrogen fix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04920" y="259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phase of  the nitrogen cycle that involves bacter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 spe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30040" y="2441520"/>
            <a:ext cx="890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 of organisms so similar to one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they can breed and produce fert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5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5800" y="5029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detritiv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880" y="1905120"/>
            <a:ext cx="87631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rganisms that eat soil and get their energy by breaking down microorganisms and bacteria in the soil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Ex: mites and earthworm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dzahm</cp:lastModifiedBy>
  <dcterms:modified xsi:type="dcterms:W3CDTF">2013-12-19T13:32:03Z</dcterms:modified>
  <cp:revision>106</cp:revision>
  <dc:subject/>
  <dc:title>Semester 2</dc:title>
</cp:coreProperties>
</file>